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A06-3625-477F-8430-AC446665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6A9-8837-4309-9317-E1DEBF06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62E-18F4-4C7D-A751-004517B3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9BE-7EC2-45BB-B42E-D417EB32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8B0-FD97-43E6-BDF9-D3F4D6AB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3B6A-A57B-4097-86A9-4459AF39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F43-F819-46DA-865F-5294DBB8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656-1E51-4D26-8E15-E259605D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742F-64A6-4AE7-B25C-A3ACB140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A38-F9E5-4C8E-8A22-E48F4241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E34-6B8C-4E99-87D7-5AA8BF72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979-8928-4481-B0B5-2F015979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51EE-2FC9-4150-969F-8D98A9EC32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 Light"/>
              </a:rPr>
              <a:t>Классические схемы для решения  планиметрических задач  по геометрии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076280"/>
            <a:ext cx="481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ила: Шайдуллина Л.К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математики МБОУ «Покровский лицей » Абдулинский 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дополнительного постро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олнение фиг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2953080" cy="1679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116000" y="4437000"/>
            <a:ext cx="3540240" cy="12225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"/>
          <p:cNvPicPr/>
          <p:nvPr/>
        </p:nvPicPr>
        <p:blipFill>
          <a:blip r:embed="rId3"/>
          <a:stretch/>
        </p:blipFill>
        <p:spPr>
          <a:xfrm>
            <a:off x="4656240" y="2060640"/>
            <a:ext cx="300024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вестно, что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BC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рапеция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= 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  — основания. Точк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акова, что углы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B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MC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ямы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)  Доказать, что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M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  =  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M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)  Расстояние от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вно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а угол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D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вен 55°. Найдите угол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BA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Объект 2" descr=""/>
          <p:cNvPicPr/>
          <p:nvPr/>
        </p:nvPicPr>
        <p:blipFill>
          <a:blip r:embed="rId1"/>
          <a:stretch/>
        </p:blipFill>
        <p:spPr>
          <a:xfrm>
            <a:off x="324000" y="1731960"/>
            <a:ext cx="8362800" cy="4394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331632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604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вестно, что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BC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рапеция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= 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  — основания. Точк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акова, что углы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B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MC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ямы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)  Доказать, что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M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  =  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M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)  Расстояние от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вно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а угол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D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вен 55°. Найдите угол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BA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Объект 2" descr=""/>
          <p:cNvPicPr/>
          <p:nvPr/>
        </p:nvPicPr>
        <p:blipFill>
          <a:blip r:embed="rId1"/>
          <a:stretch/>
        </p:blipFill>
        <p:spPr>
          <a:xfrm>
            <a:off x="324000" y="1560600"/>
            <a:ext cx="8362800" cy="4565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5867280" y="1844640"/>
            <a:ext cx="280836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тод опорных зада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B Sans Text"/>
              </a:rPr>
              <a:t>Суть метода заключается в том, чтобы сначала решить серию базовых, типовых задач, а затем применить полученные знания и подходы для решения более трудных зада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тод опорных зада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796000" y="1557360"/>
            <a:ext cx="2670120" cy="27417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755640" y="1916280"/>
            <a:ext cx="547200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360" indent="-455760">
              <a:lnSpc>
                <a:spcPts val="2775"/>
              </a:lnSpc>
              <a:buClr>
                <a:srgbClr val="000000"/>
              </a:buClr>
              <a:buFont typeface="Cambria Math"/>
              <a:buAutoNum type="arabicParenR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∆</a:t>
            </a: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BMK~∆ABC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k = |cos В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360" indent="-455760">
              <a:lnSpc>
                <a:spcPts val="2874"/>
              </a:lnSpc>
              <a:buClr>
                <a:srgbClr val="000000"/>
              </a:buClr>
              <a:buFont typeface="Calibri"/>
              <a:buAutoNum type="arabicParenR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Четырехугольник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КМС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ожно вписать в окруж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360" indent="-45576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Четырехугольник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КHM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ожно вписать в окруж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360" indent="-45576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диусы окружностей, описанных вокру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360" indent="-455760">
              <a:lnSpc>
                <a:spcPct val="100000"/>
              </a:lnSpc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реугольников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В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Н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НС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В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, ра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360" indent="-455760">
              <a:lnSpc>
                <a:spcPct val="100000"/>
              </a:lnSpc>
              <a:buClr>
                <a:srgbClr val="000000"/>
              </a:buClr>
              <a:buFont typeface="Calibri"/>
              <a:buAutoNum type="arabicParenR" startAt="5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Н = 2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|cos В|, гд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R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 радиус описанной окруж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360" indent="-45576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∆𝐴𝐵𝐶</a:t>
            </a: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тод опорных зада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усть луч МА пересекает окружность в точках А и В, а луч МD – в точках С и D, причем МА &gt; М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D &gt; МС. Тогда треугольники ВМС и DМА подоб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042920" y="2962440"/>
            <a:ext cx="4681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тод опорных зада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 треугольников АВС и АМС сторона АС – общая, угол В равен углу М. Тогда точки А, В, С, М лежат на одной окруж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258920" y="2754360"/>
            <a:ext cx="38178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тод опорных зада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 треугольников АВС и АМС сторона АС – общая, углы В и М – прямые. Тог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очки А, В, С, М лежат на окружности, радиус которой равен половине 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56577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ты BB1 и CC1 остроугольного треугольника ABC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секаются в точке H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 Докажите, что ∠AHB1 = ∠ACB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Найдите BC, если AH = 4 и ∠BAC = 60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в четырёхугольнике A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углы 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и 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— прямые, следовательно, около этого четырёхугольника можно описать окружность с диаметром AH . Вписанные углы A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и AH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опираются на одну дуг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следовательно,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libri"/>
              </a:rPr>
              <a:t>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H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= 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libri"/>
              </a:rPr>
              <a:t>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лы B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 и B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 — прямые, значит, точки B, C, 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и 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лежат на окружности с диаметром BC. Отсюда,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libri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=18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libri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B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=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libri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BC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чит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libri"/>
              </a:rPr>
              <a:t>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CB = 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libri"/>
              </a:rPr>
              <a:t>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H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348000" y="3645000"/>
            <a:ext cx="280836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ты BB1 и CC1 остроугольного треугольника ABC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секаются в точке H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 Докажите, что ∠AHB1 = ∠ACB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Найдите BC, если AH = 4 и ∠BAC = 60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Объект 2" descr=""/>
          <p:cNvPicPr/>
          <p:nvPr/>
        </p:nvPicPr>
        <p:blipFill>
          <a:blip r:embed="rId1"/>
          <a:stretch/>
        </p:blipFill>
        <p:spPr>
          <a:xfrm>
            <a:off x="324000" y="1560600"/>
            <a:ext cx="8362800" cy="4565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28098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99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352760" y="-6480"/>
            <a:ext cx="4394520" cy="1573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755640" y="2565360"/>
            <a:ext cx="7342200" cy="3855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611280" y="90360"/>
            <a:ext cx="273672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93600" y="476280"/>
            <a:ext cx="6062760" cy="5794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6156360" y="765000"/>
            <a:ext cx="26971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-4680" y="1844640"/>
            <a:ext cx="91645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мятка по решению геометрических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57200" y="1760400"/>
            <a:ext cx="822960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ые мет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дополнительного постро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геометрических преобразов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подоб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площа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координ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вспомогательной окруж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кторный спосо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ключевых или опорных зад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тод вспомогательной окруж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йства вписанных и описанных окружносте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йства центрального и вписанного уг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йства секущ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йства касатель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йства пересекающихся хор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агональ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A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рямоугольника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ABC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 центром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образует со стороной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гол 30°. Точка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лежит вне прямоугольника, причём 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BE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= 120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Докажите, что 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CB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= 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CO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ям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O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ересекает сторону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рямоугольника в точке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Найдите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EK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если известно, что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= 40 и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C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= 24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844280"/>
            <a:ext cx="8147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о теореме о внешнем угле  треугольника 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O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= 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A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+ 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B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= 2 · 30° = 60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этому   ∟ВОС+∟ВЕС=60⁰+120⁰=180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чит, точки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, E, C, 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лежат на одной окружност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писанные в эту окружность углы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B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и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O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опираю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одну и ту же дугу, следовательно, 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B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= 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O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116000" y="4221000"/>
            <a:ext cx="44640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) По теореме косинусов ВС²=ВЕ²+СЕ²-2ВЕ·СЕ·с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0⁰,ВС=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писанные углы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BE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CE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опираются на равные хорды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B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значит,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— биссектриса угла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BE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усть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— точка её пересечения со стороной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о формуле для биссектрисы треугольника получае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свойству биссектрисы треугольника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=3/8·ВС=21,ВМ=35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теоре­ме о произведении пересекающихся хорд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E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·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M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=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B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·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откуда находим, что МО=(ВМ·СМ)/ЕМ=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угольники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CO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AOK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равны по стороне и двум прилежащим к н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глам, поэтому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=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O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Следовательно,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EK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=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E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+ 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O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= 15 + 98 = 11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т: 11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03280" y="2940120"/>
            <a:ext cx="5737320" cy="487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249800" y="3692520"/>
            <a:ext cx="2547720" cy="43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2411280" y="0"/>
            <a:ext cx="41767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дополнительного постро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ение фигу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Рисунок 6" descr="C:\Users\08A4~1\AppData\Local\Temp\Rar$DIa6820.9069\1.png"/>
          <p:cNvPicPr/>
          <p:nvPr/>
        </p:nvPicPr>
        <p:blipFill>
          <a:blip r:embed="rId1"/>
          <a:stretch/>
        </p:blipFill>
        <p:spPr>
          <a:xfrm>
            <a:off x="1403280" y="2303640"/>
            <a:ext cx="2089080" cy="1539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C:\Users\08A4~1\AppData\Local\Temp\Rar$DIa6820.14743\2.png"/>
          <p:cNvPicPr/>
          <p:nvPr/>
        </p:nvPicPr>
        <p:blipFill>
          <a:blip r:embed="rId2"/>
          <a:stretch/>
        </p:blipFill>
        <p:spPr>
          <a:xfrm>
            <a:off x="4716360" y="3164040"/>
            <a:ext cx="1828800" cy="134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1390680" y="4508640"/>
            <a:ext cx="2536920" cy="15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dm</cp:lastModifiedBy>
  <dcterms:modified xsi:type="dcterms:W3CDTF">2026-01-24T14:19:04Z</dcterms:modified>
  <cp:revision>46</cp:revision>
  <dc:subject/>
  <dc:title>Слайд 1</dc:title>
</cp:coreProperties>
</file>